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0A04-34B7-4062-852D-FC0F1FFC54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21B1-9AF9-42FC-92DD-8F737540C0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17EC-3A7E-4D04-A04C-EC662448AD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 to quiz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84F1-AD76-4781-B0F8-A16635B267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83F-6965-403C-B003-6061C4CE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505-E29E-4ECE-9769-D91607D5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C01-F3B5-4493-B72E-0434D86C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478-D7CD-4690-9FE0-672D1B0D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651-16B6-45E0-817B-6A88F1C8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2E1-F2C0-40DC-A801-349BEF29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3D4-68D3-4DE7-B1A3-2BE1E70A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E93-36E6-4F36-B3FD-DD99C14F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8FB-8FC0-49E5-9C76-783A0CBF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120-04C3-4486-87FC-31B8D355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40D-D04B-4D01-9598-BB87865D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836-DC16-4B64-BF9C-E1C6CEA4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CA73-4F38-4237-886D-B184F43E0AD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Quiz about young people in the worl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600"/>
            </a:b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True or fals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41264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ng people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6275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Now check the facts from this infographic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924280"/>
            <a:ext cx="48355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lick on this link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ttp://www.newint.org/features/2012/10/01/n456_infographic.jp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5519880" y="1844640"/>
            <a:ext cx="3311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youth2.jpg"/>
          <p:cNvPicPr/>
          <p:nvPr/>
        </p:nvPicPr>
        <p:blipFill>
          <a:blip r:embed="rId1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Linda Ruas</cp:lastModifiedBy>
  <dcterms:modified xsi:type="dcterms:W3CDTF">2014-05-26T20:29:14Z</dcterms:modified>
  <cp:revision>8</cp:revision>
  <dc:subject/>
  <dc:title>Youth</dc:title>
</cp:coreProperties>
</file>